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B0F-BA4E-4D31-A4C9-127B8B73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DBD-E3B6-4631-864A-EB64E99B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BB1-5A3A-44AD-850F-675B6188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06E-BB20-4CB3-A7A0-D95C7AB5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C25-71A8-48D8-B136-DFFDE3C0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3F6-2657-43BA-82FF-356FCDF2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41E-6568-40D9-863F-CB914738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DD8-C618-4FC4-9D20-E1E7C649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01B-8385-4610-8515-3E146D53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6B3-A412-4C6C-8A49-8BA7499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B80-99AA-4946-94E1-398F79A5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693-3EC7-41A3-9850-CB47CA56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E4B1-2860-4CB9-AB27-411CF77A3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6934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6934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69343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2560" y="53352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 princip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0320" y="1828800"/>
            <a:ext cx="20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secondaire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5280" y="3657600"/>
            <a:ext cx="171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d’es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LYSE FONCTIONNELLE – R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52880"/>
            <a:ext cx="6934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in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67280"/>
            <a:ext cx="69343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ex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33520"/>
            <a:ext cx="28958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18288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3657600"/>
            <a:ext cx="28958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952880"/>
            <a:ext cx="2895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5867280"/>
            <a:ext cx="2895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5440" y="53352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5440" y="18288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85440" y="49528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85440" y="36576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5440" y="58672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2:50Z</dcterms:modified>
  <cp:revision>71</cp:revision>
  <dc:subject/>
  <dc:title>Contrôle interne des risques</dc:title>
</cp:coreProperties>
</file>